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8.jpeg" ContentType="image/jpe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5B27-3516-4A9B-AB06-D0366B0F291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4AA3-34D0-428A-B16F-B9EB39E518C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 consecuencian negativas graves para la salud o de muerte para personas o anim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DF54-D652-4B10-A271-32EAB59635C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Hot t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D62F-80A6-42A9-99E5-813B35E1C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4C43-FC68-4247-99C1-53508ABC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6CCB-1CA5-4441-B868-684616477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F2E5-21F2-4FD6-BE3B-EF742D9A9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3360-4F55-4DDF-8D7C-81D2F3D3D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FED7-39D0-4BF1-956F-BAA7A2E1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2F36B-A67B-45A9-B74B-8D8A734B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4A74-0F0C-4B5E-A38A-AA0FD251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B6C2-D89B-4B0D-8857-803EFA65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C957-E802-4687-937D-4507380A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5AB60-B438-4EAC-B8F7-4F8EC01B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8E61-46A9-42C2-8391-89B39D33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7E03-608E-455B-82FD-A61F4952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98CCA-75F5-4958-856D-144B5340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A7CEC-D9A8-46AD-AF5F-839CD3A2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AA018-08A6-4165-9692-CF812EC27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2D9F7-4217-4087-AA2F-800F71840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7640-7C85-446C-998A-6E8AB08A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0F33-A4B3-45EB-9F4C-EE8157BA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6551-0EB7-48E3-9D93-AD2C22E5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671E-0683-4AD3-8E61-127B156F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E6FB-40A1-49C9-819D-65B0E2D2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B0C6-4635-4E9D-9341-6F7CDA8D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EB8F-D1C2-4B3B-A961-83DB0ADD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04B4-8EEC-494C-A32C-C9F9993BDD9C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03F1-BD84-4690-ADAE-128F4F421F14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hyperlink" Target="mailto:eordoqui@latu.org.uy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ormas, Controles y Bioterrorismo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5486400"/>
            <a:ext cx="1615680" cy="1401120"/>
            <a:chOff x="0" y="5486400"/>
            <a:chExt cx="1615680" cy="1401120"/>
          </a:xfrm>
        </p:grpSpPr>
        <p:grpSp>
          <p:nvGrpSpPr>
            <p:cNvPr id="164" name=""/>
            <p:cNvGrpSpPr/>
            <p:nvPr/>
          </p:nvGrpSpPr>
          <p:grpSpPr>
            <a:xfrm>
              <a:off x="0" y="5486400"/>
              <a:ext cx="1615320" cy="1400400"/>
              <a:chOff x="0" y="5486400"/>
              <a:chExt cx="1615320" cy="1400400"/>
            </a:xfrm>
          </p:grpSpPr>
          <p:sp>
            <p:nvSpPr>
              <p:cNvPr id="165" name=""/>
              <p:cNvSpPr/>
              <p:nvPr/>
            </p:nvSpPr>
            <p:spPr>
              <a:xfrm>
                <a:off x="0" y="5486400"/>
                <a:ext cx="36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486400"/>
                <a:ext cx="1615320" cy="1400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r>
                  <a:rPr b="0" lang="en-US" sz="3900" spc="-1" strike="noStrike">
                    <a:solidFill>
                      <a:srgbClr val="ffffff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         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0" y="5486400"/>
              <a:ext cx="1615680" cy="1401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68" name="" descr="Laboratorio Tecnológico del Uruguay"/>
          <p:cNvPicPr/>
          <p:nvPr/>
        </p:nvPicPr>
        <p:blipFill>
          <a:blip r:embed="rId1"/>
          <a:stretch/>
        </p:blipFill>
        <p:spPr>
          <a:xfrm>
            <a:off x="250920" y="5589720"/>
            <a:ext cx="1341360" cy="10540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88620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64000" y="4575240"/>
            <a:ext cx="50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29 de enero de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Country Club Lima Hot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Lima PER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Lic. Elina Ordoqu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268360" y="1413000"/>
          <a:ext cx="4321440" cy="342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1413000"/>
                    <a:ext cx="4321440" cy="34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ificación Previa de Alimentos Importad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FDA deberá recibir notificación previa de todas y cada una de las partidas de alimentos que entren en los EEU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y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pción de todos los artícul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bricante y el embarcad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t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ís originari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ís desde el que se envía el artícul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erto de entrada previs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ificación Previa de Alimentos Importad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odía del día antes de que llega el envío (no menos de 8 horas) y no más de 5 días antes del enví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artir del 12 de diciembre de 200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cto en la FDA - Mary Ayling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1-436-2428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tención Administrativa</a:t>
            </a:r>
            <a:br>
              <a:rPr sz="40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riza a la FDA a retener administrativamente alimentos si la Agencia tiene pruebas o información creíble de que dichos alimentos representan una amenaz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cesita instituir procedimientos para los alimentos pereceder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tención Administrativ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acto en la FDA  - Marquita Steadman 301-827-673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íodo de transición (Implementación) de 8 meses hasta el 12 de Agosto de 2004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be ser interpretado como un período en el cual se van a permitir errores y no como el alargamiento de los plazos para su cumplimi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eva Legislación Contra el Bioterrorism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40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ww.fda.gov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ioterrorism Ac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http://www.fda.gov/oc/bioterrorism/bioact.html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GUR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 tema que nos compete a todos, por lo que exige un tratamiento integral e inmediato de responsabilidad compartid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 papel jugamos y la responsabilidad que tiene cada un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bemos asegurar una efectiva capacitación del personal involucrado en las operaciones logística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¿QUIÉNES ESTAN INVOLUCRADO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ersonas que fabrican, procesan, envasan, distribuyen ,reciben, almacenan o importan alimentos estarán obligados a crear y mantener registr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ermitir la trazabilid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364000" y="3716280"/>
            <a:ext cx="3578400" cy="23860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7920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Verdana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620640"/>
            <a:ext cx="820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 muchas empresas el precio y la                                                calidad están dados y el elemento    diferenciador es la capacidad de entrega del   Producto o Servicio, demostrando seguridad      en la oper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car los requisitos de infraestructur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Marco Regulatorio y los Procedimientos a seguir para cumplirlo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 único seguro, es apuntar a la flexibilidad para adaptarnos rápidamente a los cambi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3964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reciente complejidad en el comercio exterior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ayor Información al alcance de nuestros client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Necesidad de poder demostrar la trazabilidad de los productos y Servici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1549800" y="549360"/>
            <a:ext cx="618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La Realidad del Mundo Act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ertificación de Seguridad en la cadena logísti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mentar la Normalización y estandarización de procedimientos de seguridad de exportaciones, previniendo los riesgos, en cumplimiento con la nueva ley de Bioseguridad de EEU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cución de acciones preventivas, destinadas a dar confianza en la seguridad de la carga y así permitir el correcto flujo de mercaderías sin turbulencia en la cadena logístic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troles: Auditoría de Logística Segura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62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ceso sistemático, independiente y documentado, para obtener evidencia de la auditoría y evaluarla de manera objetiva, con el fin de determinar la extensión en que se cumplen los criterios de la mism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rga segura, logística de recibo y despacho de la carg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rol de inocuidad y características de la carga transportad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ertificación de Segur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ar el material y las características del empaqu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ntos y sellos de segurid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ar documentos y formularios que permitan la trazabilid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ogística y Segur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ación de todos los actores, tanto públicos como privados, para dar confiabilidad en el sistema y que nos elijan como un eslabón integrante de la cadena de abastecimi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ntaja competitiva en materia de Seguridad en toda la Cadena de Abastecimi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Logística y Segur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ablecer niveles de riesgo y procedimientos simples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ortalecer las cadenas de abastecimi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ortalecer el comercio internacional de una manera ágil y segura, mediante la aplicación de estándares y procedimientos de seguridad, reconocidos y avalados internacionalment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2818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eneficios de una Logística Seg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6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rtificación que facilite la entrada a los mercados internacional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ir el riesgo de que cargas legales sean utilizadas para actividades ilícita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mizar los procesos y operacion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 la cadena logística del comercio exterio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r el intercambio comercial con segurida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ogística Seg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85988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Certificación de la Carga, nos va a permitir que los productos fluyan correctamente a lo largo de la cadena logística, desde el punto de origen o fabricación, a su cliente final, en cualquier lugar del mund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ogística Seg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no estamos reconocidos y no generamos confianza, nuestros productos pueden terminar en puertos de cuarentena para ser inspeccionados, con la consiguiente pérdida potencial de la carg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Logística Seg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gregar valor al Sistema de Gestión de Calidad, Certificando también la Seguridad, aumenta la diferencia frente a la competenci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sí lograremos captar y/o mantener nuevos mercados y clientes.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¿Como se logra esto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iendo muy claro lo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quisitos del cliente, las normas y reglamentos vigentes, en cada mercado particular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medio del intercambio fluido y transparente d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ción precisa y a tiempo, con los proveedores y client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da eslabón de la cadena debe ser: eficiente, flexible, ágil y orientado hacia el client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3008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oy una buena tecnología y una buena calidad son necesarios,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ero no suficientes.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395280" y="765000"/>
            <a:ext cx="5688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bemos trabajar integrando los procesos de toda la cadena, buscando optimizar procesos y reducir costos, asumiendo los nuevos requerimientos impuestos por nuestro cliente, sin perder competitivida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or lo tanto, debemos buscar soluciones integrales a estos nuevos desafíos, contemplando que ya hoy nuestros costos logísticos son muy superiores respecto a Europ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227640" y="1916280"/>
            <a:ext cx="265284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1979640" y="620640"/>
          <a:ext cx="5549760" cy="351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620640"/>
                    <a:ext cx="5549760" cy="35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1332000" y="4797360"/>
          <a:ext cx="6885000" cy="57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4797360"/>
                    <a:ext cx="688500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3036600" y="5670720"/>
            <a:ext cx="30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eordoqui@latu.org.u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Gestión Logís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6320" y="152280"/>
            <a:ext cx="8762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Prioridades Competitiv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9360" y="9360"/>
            <a:ext cx="9134640" cy="684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9" name=""/>
          <p:cNvGraphicFramePr/>
          <p:nvPr/>
        </p:nvGraphicFramePr>
        <p:xfrm>
          <a:off x="6659640" y="6021360"/>
          <a:ext cx="1695240" cy="4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59640" y="6021360"/>
                    <a:ext cx="169524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755640" y="6021360"/>
          <a:ext cx="1554120" cy="25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6021360"/>
                    <a:ext cx="155412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2627280" y="5950080"/>
          <a:ext cx="3960720" cy="511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27280" y="5950080"/>
                    <a:ext cx="3960720" cy="511200"/>
                  </a:xfrm>
                  <a:prstGeom prst="rect">
                    <a:avLst/>
                  </a:prstGeom>
                  <a:ln w="9360">
                    <a:solidFill>
                      <a:srgbClr val="0066cc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greso de más países proveedores al   mercado internacional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car factores que aseguren un aprovechamiento sustancial de las características propias de la agroindustri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ortunidades de mejoramiento en áreas de alto impacto y difíciles de soluciona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ronizar los esfuerzos de proveedores y clientes para satisfacer las necesidades planteada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ilita la Comunicación entre la demanda y quienes la satisface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y de seguridad de la Salud Pública, preparación y Respuesta ante el Bioterrorismo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2296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ró en vigencia a partir del 12/12/2003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gobierno de los EEUU a partir de junio de 2002, busca organizar el control y la seguridad de los embarques con destino a su paí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o involucra a todos los exportadores y operadores que participan en la logística del comercio exterio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ueva Legislación Contra el Bioterrorism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tiv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stro de Instalaciones Alimenticia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ificación Previa de Alimentos Importad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blecimiento y Mantenimiento de Registr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nción Administrativ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gistro de Instalaciones Alimentic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 instalaciones alimenticias nacionales y extranjeras que fabrican, procesan, envasan, distribuyen, reciben o almacenan alimentos para el consumo humano o animal en los E.E.U.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gistro de Instalaciones Alimentic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ntos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stalaciones reguladas de forma exclusiva por el USD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laciones extranjeras si los alimentos procedentes de ella sufren un procesamiento o envasado posterior en otras instalaciones fuera de los EEU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za solamente una actividad mínima, ambas instalaciones necesitan registrar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2T15:53:26Z</dcterms:created>
  <dc:creator>Juan Opertti</dc:creator>
  <dc:description/>
  <dc:language>en-US</dc:language>
  <cp:lastModifiedBy>eordoqui</cp:lastModifiedBy>
  <dcterms:modified xsi:type="dcterms:W3CDTF">2004-01-26T17:36:23Z</dcterms:modified>
  <cp:revision>56</cp:revision>
  <dc:subject/>
  <dc:title>Presentación de PowerPoint</dc:title>
</cp:coreProperties>
</file>