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9D61-BFC4-4929-8B94-BF27B3DA3B3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C2B3-BA6D-4922-9EE7-1980FBE32C2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consecuencian negativas graves para la salud o de muerte para personas o ani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010E-0A36-4555-AB3E-57A193F06A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Hot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8C85-D7E1-45B5-9A82-0A016AB6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1C8-2F7D-4FE9-B1FB-650DE934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8BA-C480-422C-B0FA-DC1BF096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4119-1BC3-4659-A325-83F598DE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D957-670D-4B26-A7C2-77629B32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93DD-13F6-407B-93CD-770202F7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928E-6EEA-4D38-8068-43C5CA47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9217-ECAA-441B-A577-A831E8E0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26BB-9931-416F-83EE-2B54173C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CDA4-25C5-4F3C-B79C-A3F855B0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A577-54EE-4839-A3C0-605E1605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0DEF-A515-42D2-8512-534C3B18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7157-D9E4-4F99-8996-2D5E0F94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5B36-219E-44B5-B234-54E018C0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7623-5CB1-46AA-BEB8-28C6C27D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2367-DC7D-47BF-B429-D681E04B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FFF2-FB83-4DBF-8EFB-557C686D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3A25-7CC4-4B46-B010-3C403E1F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1839-D8C9-4B26-AB43-C35127BC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765D-BA55-447D-BE53-F6BEDD3A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4350-540F-4128-A0F3-5A6571A1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58F-9C5C-4E15-A0B2-7F514823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F5BC-85BA-40F3-8F13-20F8FE04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374-48C9-4F3B-9053-383FBBF9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EB62-1B27-4341-B0BB-7CFEB6ED5377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46A2-A5EA-4625-8F1E-5DFAAE281C13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hyperlink" Target="mailto:eordoqui@latu.org.uy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ormas, Controles y Bioterrorismo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5486400"/>
            <a:ext cx="1615680" cy="1401120"/>
            <a:chOff x="0" y="5486400"/>
            <a:chExt cx="1615680" cy="1401120"/>
          </a:xfrm>
        </p:grpSpPr>
        <p:grpSp>
          <p:nvGrpSpPr>
            <p:cNvPr id="164" name=""/>
            <p:cNvGrpSpPr/>
            <p:nvPr/>
          </p:nvGrpSpPr>
          <p:grpSpPr>
            <a:xfrm>
              <a:off x="0" y="5486400"/>
              <a:ext cx="1615320" cy="1400400"/>
              <a:chOff x="0" y="5486400"/>
              <a:chExt cx="1615320" cy="140040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548640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486400"/>
                <a:ext cx="1615320" cy="140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39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0" y="5486400"/>
              <a:ext cx="1615680" cy="140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8" name="" descr="Laboratorio Tecnológico del Uruguay"/>
          <p:cNvPicPr/>
          <p:nvPr/>
        </p:nvPicPr>
        <p:blipFill>
          <a:blip r:embed="rId1"/>
          <a:stretch/>
        </p:blipFill>
        <p:spPr>
          <a:xfrm>
            <a:off x="250920" y="5589720"/>
            <a:ext cx="1341360" cy="1054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862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4575240"/>
            <a:ext cx="50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29 de enero de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untry Club Lima Ho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ma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c. Elina Ordoq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68360" y="1413000"/>
          <a:ext cx="4321440" cy="342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1413000"/>
                    <a:ext cx="432144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FDA deberá recibir notificación previa de todas y cada una de las partidas de alimentos que entren en los EEU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y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ción de todos los artícul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bricante y el embarcad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origina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desde el que se envía el artícu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erto de entrada previs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odía del día antes de que llega el envío (no menos de 8 horas) y no más de 5 días antes del enví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tir del 12 de diciembre de 200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o en la FDA - Mary Ayl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1-436-242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riza a la FDA a retener administrativamente alimentos si la Agencia tiene pruebas o información creíble de que dichos alimentos representan una amenaz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esita instituir procedimientos para los alimentos perecede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acto en la FDA  - Marquita Steadman 301-827-673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íodo de transición (Implementación) de 8 meses hasta el 12 de Agosto de 2004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 ser interpretado como un período en el cual se van a permitir errores y no como el alargamiento de los plazos para su cumpl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ww.fda.gov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ioterrorism Ac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ttp://www.fda.gov/oc/bioterrorism/bioact.htm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tema que nos compete a todos, por lo que exige un tratamiento integral e inmediato de responsabilidad comparti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papel jugamos y la responsabilidad que tiene cada un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mos asegurar una efectiva capacitación del personal involucrado en las operaciones logístic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QUIÉNES ESTAN INVOLUCRADO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sonas que fabrican, procesan, envasan, distribuyen ,reciben, almacenan o importan alimentos estarán obligados a crear y mantener regist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mitir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364000" y="3716280"/>
            <a:ext cx="3578400" cy="2386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Verdan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62064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muchas empresas el precio y la                                                calidad están dados y el elemento    diferenciador es la capacidad de entrega del   Producto o Servicio, demostrando seguridad      en la ope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los requisitos de infraestructur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arco Regulatorio y los Procedimientos a seguir para cumplirl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único seguro, es apuntar a la flexibilidad para adaptarnos rápidamente a los camb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reciente complejidad en el comercio exterio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ayor Información al alcance de nuestros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ecesidad de poder demostrar la trazabilidad de los productos y Servic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549800" y="549360"/>
            <a:ext cx="61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La Realidad del Mundo Ac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 en la cadena logís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mentar la Normalización y estandarización de procedimientos de seguridad de exportaciones, previniendo los riesgos, en cumplimiento con la nueva ley de Bioseguridad de EEU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cución de acciones preventivas, destinadas a dar confianza en la seguridad de la carga y así permitir el correcto flujo de mercaderías sin turbulencia en la cadena logísti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roles: Auditoría de Logística Segura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ceso sistemático, independiente y documentado, para obtener evidencia de la auditoría y evaluarla de manera objetiva, con el fin de determinar la extensión en que se cumplen los criterios de la mism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ga segura, logística de recibo y despacho de la carg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ol de inocuidad y características de la carga transportad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el material y las características del empaqu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ntos y sellos de segur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documentos y formularios que permitan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ción de todos los actores, tanto públicos como privados, para dar confiabilidad en el sistema y que nos elijan como un eslabón integrante de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aja competitiva en materia de Seguridad en toda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ablecer niveles de riesgo y procedimientos simple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las cadenas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el comercio internacional de una manera ágil y segura, mediante la aplicación de estándares y procedimientos de seguridad, reconocidos y avalados internacionalm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2818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neficios de una 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ificación que facilite la entrada a los mercados internaciona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ir el riesgo de que cargas legales sean utilizadas para actividades ilícit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ar los procesos y opera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la caden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r el intercambio comercial con segur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85988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ertificación de la Carga, nos va a permitir que los productos fluyan correctamente a lo largo de la cadena logística, desde el punto de origen o fabricación, a su cliente final, en cualquier lugar del mund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no estamos reconocidos y no generamos confianza, nuestros productos pueden terminar en puertos de cuarentena para ser inspeccionados, con la consiguiente pérdida potencial de la carg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gregar valor al Sistema de Gestión de Calidad, Certificando también la Seguridad, aumenta la diferencia frente a la competenc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sí lograremos captar y/o mantener nuevos mercados y clientes.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¿Como se logra esto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iendo muy claro lo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sitos del cliente, las normas y reglamentos vigentes, en cada mercado particula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medio del intercambio fluido y transparente d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ción precisa y a tiempo, con los proveedores y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a eslabón de la cadena debe ser: eficiente, flexible, ágil y orientado hacia el cli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00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y una buena tecnología y una buena calidad son necesarios,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ero no suficientes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5688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bemos trabajar integrando los procesos de toda la cadena, buscando optimizar procesos y reducir costos, asumiendo los nuevos requerimientos impuestos por nuestro cliente, sin perder competitiv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or lo tanto, debemos buscar soluciones integrales a estos nuevos desafíos, contemplando que ya hoy nuestros costos logísticos son muy superiores respecto a Europ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6528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979640" y="620640"/>
          <a:ext cx="5549760" cy="35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620640"/>
                    <a:ext cx="5549760" cy="35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332000" y="4797360"/>
          <a:ext cx="688500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797360"/>
                    <a:ext cx="68850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3036600" y="5670720"/>
            <a:ext cx="30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eordoqui@latu.org.u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Gestión Logís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320" y="152280"/>
            <a:ext cx="8762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rioridades Compet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6659640" y="6021360"/>
          <a:ext cx="169524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6021360"/>
                    <a:ext cx="16952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55640" y="6021360"/>
          <a:ext cx="1554120" cy="25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6021360"/>
                    <a:ext cx="155412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627280" y="5950080"/>
          <a:ext cx="396072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5950080"/>
                    <a:ext cx="3960720" cy="511200"/>
                  </a:xfrm>
                  <a:prstGeom prst="rect">
                    <a:avLst/>
                  </a:prstGeom>
                  <a:ln w="9360">
                    <a:solidFill>
                      <a:srgbClr val="0066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reso de más países proveedores al   mercado internacional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factores que aseguren un aprovechamiento sustancial de las características propias de la agroindustr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ortunidades de mejoramiento en áreas de alto impacto y difíciles de solucion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ronizar los esfuerzos de proveedores y clientes para satisfacer las necesidades plantead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 la Comunicación entre la demanda y quienes la satisfac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y de seguridad de la Salud Pública, preparación y Respuesta ante el Bioterrorism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ó en vigencia a partir del 12/12/2003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gobierno de los EEUU a partir de junio de 2002, busca organizar el control y la seguridad de los embarques con destino a su paí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o involucra a todos los exportadores y operadores que participan en l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tiv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ro de Instalaciones Alimenticia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ecimiento y Mantenimiento de Registr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instalaciones alimenticias nacionales y extranjeras que fabrican, procesan, envasan, distribuyen, reciben o almacenan alimentos para el consumo humano o animal en los E.E.U.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ntos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talaciones reguladas de forma exclusiva por el USD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aciones extranjeras si los alimentos procedentes de ella sufren un procesamiento o envasado posterior en otras instalaciones fuera de los EEU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 solamente una actividad mínima, ambas instalaciones necesitan registrar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5:53:26Z</dcterms:created>
  <dc:creator>Juan Opertti</dc:creator>
  <dc:description/>
  <dc:language>en-US</dc:language>
  <cp:lastModifiedBy>eordoqui</cp:lastModifiedBy>
  <dcterms:modified xsi:type="dcterms:W3CDTF">2004-01-26T17:36:23Z</dcterms:modified>
  <cp:revision>56</cp:revision>
  <dc:subject/>
  <dc:title>Presentación de PowerPoint</dc:title>
</cp:coreProperties>
</file>